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792913"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5"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6"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8"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9"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0"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1"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33"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4"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5"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6"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7"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8"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5"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7"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9"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0"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54"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5"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6"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58"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9"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0"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2"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3"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4"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6"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7"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9"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0"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1"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2"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74"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5"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6"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7"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8"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9"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DD9B6-F8EB-4B62-ADCA-A2C0B8AAA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7"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EEA97-7DAE-4A10-926D-E58966858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9"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42D8D-25AE-452D-9E6D-7E4023D83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91"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2"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5A962-005D-464E-BC17-C4F7CB6FA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3422C-3068-4FF0-96D3-B95B2C0E6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F68C7-6A88-44F0-BE37-054AB468C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96"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7"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8"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2566-506A-4722-BD37-76FE5CDE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0"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1"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2"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C62DE-67E5-4BA0-8D19-E9167D8E4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4"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5"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6"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679A5-6D48-4046-BD6D-F97891012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8"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9"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D2567-8659-4EBC-A13F-702D2D81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11"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2"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3"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4"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743DD-EAEF-4683-ACAD-029ABFF5C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16"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7"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8"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9"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20"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21"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BDD18-4AD6-4D4D-9EDD-DCBCE116E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3"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4"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5"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7"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8"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9"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1"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2"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3"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1"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
        <p:nvSpPr>
          <p:cNvPr id="2" name="Rectangle 17"/>
          <p:cNvSpPr/>
          <p:nvPr/>
        </p:nvSpPr>
        <p:spPr>
          <a:xfrm>
            <a:off x="376704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2000" spc="-1" strike="noStrike">
              <a:solidFill>
                <a:srgbClr val="000000"/>
              </a:solidFill>
              <a:latin typeface="Swis721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8457120" y="6591240"/>
            <a:ext cx="377280" cy="104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3845-DD43-4AAB-A6BA-45829CC13403}" type="slidenum">
              <a:rPr b="0" lang="en-US" sz="600" spc="-1" strike="noStrike">
                <a:solidFill>
                  <a:srgbClr val="000000"/>
                </a:solidFill>
                <a:latin typeface="Garamond MT"/>
              </a:rPr>
              <a:t>&lt;number&gt;</a:t>
            </a:fld>
            <a:endParaRPr b="1" lang="en-US" sz="600" spc="-1" strike="noStrike">
              <a:solidFill>
                <a:srgbClr val="000000"/>
              </a:solidFill>
              <a:latin typeface="Swis721 BT"/>
            </a:endParaRPr>
          </a:p>
        </p:txBody>
      </p:sp>
      <p:sp>
        <p:nvSpPr>
          <p:cNvPr id="40" name="Rectangle 7"/>
          <p:cNvSpPr/>
          <p:nvPr/>
        </p:nvSpPr>
        <p:spPr>
          <a:xfrm>
            <a:off x="380880" y="304920"/>
            <a:ext cx="8382240" cy="533160"/>
          </a:xfrm>
          <a:prstGeom prst="rect">
            <a:avLst/>
          </a:prstGeom>
          <a:noFill/>
          <a:ln w="0">
            <a:noFill/>
          </a:ln>
        </p:spPr>
        <p:style>
          <a:lnRef idx="0"/>
          <a:fillRef idx="0"/>
          <a:effectRef idx="0"/>
          <a:fontRef idx="minor"/>
        </p:style>
        <p:txBody>
          <a:bodyPr lIns="90360" rIns="90360" tIns="44280" bIns="44280" anchor="t">
            <a:noAutofit/>
          </a:bodyPr>
          <a:p>
            <a:pPr marL="552600" indent="-552600">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cy-GB" sz="2400" spc="-1" strike="noStrike">
                <a:solidFill>
                  <a:srgbClr val="000000"/>
                </a:solidFill>
                <a:latin typeface="Arial"/>
              </a:rPr>
              <a:t>Appendix: the Reading Typology (2006)</a:t>
            </a:r>
            <a:endParaRPr b="1" lang="en-US" sz="2400" spc="-1" strike="noStrike">
              <a:solidFill>
                <a:srgbClr val="000000"/>
              </a:solidFill>
              <a:latin typeface="Swis721 BT"/>
            </a:endParaRPr>
          </a:p>
        </p:txBody>
      </p:sp>
      <p:sp>
        <p:nvSpPr>
          <p:cNvPr id="41" name="Rectangle 8"/>
          <p:cNvSpPr/>
          <p:nvPr/>
        </p:nvSpPr>
        <p:spPr>
          <a:xfrm>
            <a:off x="380880" y="762120"/>
            <a:ext cx="8763120" cy="4876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Family-oriented (30%)</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Have secure succession plans and intend to be farming in five years.  Have larger farms, are dependent on farming for their incomes.</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Business/Entrepreneur (26%)</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Older and less educated than average, with slightly lower incomes.  Have secure succession plans.  Hold positive attitudes to the SFP.</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Hedonic/Hobbyist (17%)</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ost well-educated group, and least dependent on farming for their incomes.  Involved in non-agricultural businesses, and receive environmental grants.  Farms are only a little smaller than average.</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cy-GB" sz="1400" spc="-1" strike="noStrike">
                <a:solidFill>
                  <a:srgbClr val="000000"/>
                </a:solidFill>
                <a:latin typeface="Arial"/>
                <a:ea typeface="Times New Roman"/>
              </a:rPr>
              <a:t>L</a:t>
            </a:r>
            <a:r>
              <a:rPr b="1" lang="en-GB" sz="1400" spc="-1" strike="noStrike">
                <a:solidFill>
                  <a:srgbClr val="000000"/>
                </a:solidFill>
                <a:latin typeface="Arial"/>
                <a:ea typeface="Arial"/>
              </a:rPr>
              <a:t>ifestyler (22%)</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Low levels of dependency on farming for their incomes, and the highest level of income from agricultural sales.  Farm the largest holdings, and have high levels of involvement in non-agricultural enterprises.  Financially secure, younger than average and with low rates of succession plans.  Most negative attitudes to SFP.</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Independent/Small (6%)</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ost dependent on farming for their income.  Farm the smallest holdings, have the lowest incomes from agricultural sales.  Have the lowest level of education, are most likely to be middle aged.  Hold the most positive attitudes towards SFP.</a:t>
            </a:r>
            <a:endParaRPr b="1" lang="en-US" sz="1400" spc="-1" strike="noStrike">
              <a:solidFill>
                <a:srgbClr val="000000"/>
              </a:solidFill>
              <a:latin typeface="Swis721 BT"/>
            </a:endParaRPr>
          </a:p>
        </p:txBody>
      </p:sp>
      <p:sp>
        <p:nvSpPr>
          <p:cNvPr id="42"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3"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7"/>
          <p:cNvSpPr/>
          <p:nvPr/>
        </p:nvSpPr>
        <p:spPr>
          <a:xfrm>
            <a:off x="376704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2000" spc="-1" strike="noStrike">
              <a:solidFill>
                <a:srgbClr val="000000"/>
              </a:solidFill>
              <a:latin typeface="Swis721 BT"/>
            </a:endParaRPr>
          </a:p>
        </p:txBody>
      </p:sp>
      <p:sp>
        <p:nvSpPr>
          <p:cNvPr id="81"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82"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
        <p:nvSpPr>
          <p:cNvPr id="8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8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4D23-DC1A-46E2-8607-8392395CAD1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reeform 29"/>
          <p:cNvSpPr/>
          <p:nvPr/>
        </p:nvSpPr>
        <p:spPr>
          <a:xfrm>
            <a:off x="384336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3"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4" name="Freeform 33"/>
          <p:cNvSpPr/>
          <p:nvPr/>
        </p:nvSpPr>
        <p:spPr>
          <a:xfrm>
            <a:off x="384660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5" name="TextBox 19"/>
          <p:cNvSpPr/>
          <p:nvPr/>
        </p:nvSpPr>
        <p:spPr>
          <a:xfrm>
            <a:off x="684360" y="1773360"/>
            <a:ext cx="23889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Components of the Motivational System</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26" name="Freeform 8"/>
          <p:cNvSpPr/>
          <p:nvPr/>
        </p:nvSpPr>
        <p:spPr>
          <a:xfrm>
            <a:off x="3257640" y="2344680"/>
            <a:ext cx="2415960" cy="2568600"/>
          </a:xfrm>
          <a:custGeom>
            <a:avLst/>
            <a:gdLst>
              <a:gd name="textAreaLeft" fmla="*/ 0 w 2415960"/>
              <a:gd name="textAreaRight" fmla="*/ 2416320 w 2415960"/>
              <a:gd name="textAreaTop" fmla="*/ 0 h 2568600"/>
              <a:gd name="textAreaBottom" fmla="*/ 2568960 h 2568600"/>
            </a:gdLst>
            <a:ahLst/>
            <a:rect l="textAreaLeft" t="textAreaTop" r="textAreaRight" b="textAreaBottom"/>
            <a:pathLst>
              <a:path w="3185" h="3637">
                <a:moveTo>
                  <a:pt x="2825" y="2486"/>
                </a:moveTo>
                <a:lnTo>
                  <a:pt x="2845" y="2453"/>
                </a:lnTo>
                <a:lnTo>
                  <a:pt x="2878" y="2402"/>
                </a:lnTo>
                <a:lnTo>
                  <a:pt x="2919" y="2335"/>
                </a:lnTo>
                <a:lnTo>
                  <a:pt x="2966" y="2251"/>
                </a:lnTo>
                <a:lnTo>
                  <a:pt x="3013" y="2153"/>
                </a:lnTo>
                <a:lnTo>
                  <a:pt x="3062" y="2043"/>
                </a:lnTo>
                <a:lnTo>
                  <a:pt x="3107" y="1920"/>
                </a:lnTo>
                <a:lnTo>
                  <a:pt x="3144" y="1787"/>
                </a:lnTo>
                <a:lnTo>
                  <a:pt x="3170" y="1646"/>
                </a:lnTo>
                <a:lnTo>
                  <a:pt x="3185" y="1497"/>
                </a:lnTo>
                <a:lnTo>
                  <a:pt x="3181" y="1339"/>
                </a:lnTo>
                <a:lnTo>
                  <a:pt x="3160" y="1178"/>
                </a:lnTo>
                <a:lnTo>
                  <a:pt x="3113" y="1010"/>
                </a:lnTo>
                <a:lnTo>
                  <a:pt x="3044" y="843"/>
                </a:lnTo>
                <a:lnTo>
                  <a:pt x="2943" y="671"/>
                </a:lnTo>
                <a:lnTo>
                  <a:pt x="2811" y="499"/>
                </a:lnTo>
                <a:lnTo>
                  <a:pt x="2766" y="452"/>
                </a:lnTo>
                <a:lnTo>
                  <a:pt x="2721" y="405"/>
                </a:lnTo>
                <a:lnTo>
                  <a:pt x="2672" y="362"/>
                </a:lnTo>
                <a:lnTo>
                  <a:pt x="2620" y="323"/>
                </a:lnTo>
                <a:lnTo>
                  <a:pt x="2567" y="285"/>
                </a:lnTo>
                <a:lnTo>
                  <a:pt x="2514" y="250"/>
                </a:lnTo>
                <a:lnTo>
                  <a:pt x="2457" y="217"/>
                </a:lnTo>
                <a:lnTo>
                  <a:pt x="2400" y="186"/>
                </a:lnTo>
                <a:lnTo>
                  <a:pt x="2340" y="160"/>
                </a:lnTo>
                <a:lnTo>
                  <a:pt x="2281" y="133"/>
                </a:lnTo>
                <a:lnTo>
                  <a:pt x="2220" y="111"/>
                </a:lnTo>
                <a:lnTo>
                  <a:pt x="2158" y="90"/>
                </a:lnTo>
                <a:lnTo>
                  <a:pt x="2095" y="72"/>
                </a:lnTo>
                <a:lnTo>
                  <a:pt x="2032" y="56"/>
                </a:lnTo>
                <a:lnTo>
                  <a:pt x="1968" y="41"/>
                </a:lnTo>
                <a:lnTo>
                  <a:pt x="1905" y="29"/>
                </a:lnTo>
                <a:lnTo>
                  <a:pt x="1840" y="19"/>
                </a:lnTo>
                <a:lnTo>
                  <a:pt x="1776" y="11"/>
                </a:lnTo>
                <a:lnTo>
                  <a:pt x="1711" y="4"/>
                </a:lnTo>
                <a:lnTo>
                  <a:pt x="1647" y="2"/>
                </a:lnTo>
                <a:lnTo>
                  <a:pt x="1584" y="0"/>
                </a:lnTo>
                <a:lnTo>
                  <a:pt x="1521" y="0"/>
                </a:lnTo>
                <a:lnTo>
                  <a:pt x="1459" y="2"/>
                </a:lnTo>
                <a:lnTo>
                  <a:pt x="1398" y="7"/>
                </a:lnTo>
                <a:lnTo>
                  <a:pt x="1337" y="13"/>
                </a:lnTo>
                <a:lnTo>
                  <a:pt x="1278" y="19"/>
                </a:lnTo>
                <a:lnTo>
                  <a:pt x="1220" y="29"/>
                </a:lnTo>
                <a:lnTo>
                  <a:pt x="1163" y="41"/>
                </a:lnTo>
                <a:lnTo>
                  <a:pt x="1108" y="54"/>
                </a:lnTo>
                <a:lnTo>
                  <a:pt x="1055" y="68"/>
                </a:lnTo>
                <a:lnTo>
                  <a:pt x="1002" y="84"/>
                </a:lnTo>
                <a:lnTo>
                  <a:pt x="952" y="103"/>
                </a:lnTo>
                <a:lnTo>
                  <a:pt x="895" y="127"/>
                </a:lnTo>
                <a:lnTo>
                  <a:pt x="840" y="156"/>
                </a:lnTo>
                <a:lnTo>
                  <a:pt x="787" y="188"/>
                </a:lnTo>
                <a:lnTo>
                  <a:pt x="734" y="225"/>
                </a:lnTo>
                <a:lnTo>
                  <a:pt x="685" y="262"/>
                </a:lnTo>
                <a:lnTo>
                  <a:pt x="638" y="303"/>
                </a:lnTo>
                <a:lnTo>
                  <a:pt x="595" y="342"/>
                </a:lnTo>
                <a:lnTo>
                  <a:pt x="554" y="381"/>
                </a:lnTo>
                <a:lnTo>
                  <a:pt x="517" y="417"/>
                </a:lnTo>
                <a:lnTo>
                  <a:pt x="482" y="454"/>
                </a:lnTo>
                <a:lnTo>
                  <a:pt x="454" y="485"/>
                </a:lnTo>
                <a:lnTo>
                  <a:pt x="429" y="513"/>
                </a:lnTo>
                <a:lnTo>
                  <a:pt x="411" y="538"/>
                </a:lnTo>
                <a:lnTo>
                  <a:pt x="397" y="554"/>
                </a:lnTo>
                <a:lnTo>
                  <a:pt x="386" y="567"/>
                </a:lnTo>
                <a:lnTo>
                  <a:pt x="384" y="571"/>
                </a:lnTo>
                <a:lnTo>
                  <a:pt x="311" y="724"/>
                </a:lnTo>
                <a:lnTo>
                  <a:pt x="270" y="875"/>
                </a:lnTo>
                <a:lnTo>
                  <a:pt x="251" y="1016"/>
                </a:lnTo>
                <a:lnTo>
                  <a:pt x="251" y="1143"/>
                </a:lnTo>
                <a:lnTo>
                  <a:pt x="262" y="1251"/>
                </a:lnTo>
                <a:lnTo>
                  <a:pt x="278" y="1335"/>
                </a:lnTo>
                <a:lnTo>
                  <a:pt x="292" y="1390"/>
                </a:lnTo>
                <a:lnTo>
                  <a:pt x="298" y="1409"/>
                </a:lnTo>
                <a:lnTo>
                  <a:pt x="0" y="2190"/>
                </a:lnTo>
                <a:lnTo>
                  <a:pt x="213" y="2316"/>
                </a:lnTo>
                <a:lnTo>
                  <a:pt x="210" y="2404"/>
                </a:lnTo>
                <a:lnTo>
                  <a:pt x="208" y="2621"/>
                </a:lnTo>
                <a:lnTo>
                  <a:pt x="213" y="2891"/>
                </a:lnTo>
                <a:lnTo>
                  <a:pt x="227" y="3140"/>
                </a:lnTo>
                <a:lnTo>
                  <a:pt x="239" y="3189"/>
                </a:lnTo>
                <a:lnTo>
                  <a:pt x="268" y="3228"/>
                </a:lnTo>
                <a:lnTo>
                  <a:pt x="307" y="3257"/>
                </a:lnTo>
                <a:lnTo>
                  <a:pt x="354" y="3279"/>
                </a:lnTo>
                <a:lnTo>
                  <a:pt x="411" y="3296"/>
                </a:lnTo>
                <a:lnTo>
                  <a:pt x="474" y="3306"/>
                </a:lnTo>
                <a:lnTo>
                  <a:pt x="540" y="3310"/>
                </a:lnTo>
                <a:lnTo>
                  <a:pt x="607" y="3310"/>
                </a:lnTo>
                <a:lnTo>
                  <a:pt x="675" y="3308"/>
                </a:lnTo>
                <a:lnTo>
                  <a:pt x="740" y="3302"/>
                </a:lnTo>
                <a:lnTo>
                  <a:pt x="801" y="3296"/>
                </a:lnTo>
                <a:lnTo>
                  <a:pt x="854" y="3288"/>
                </a:lnTo>
                <a:lnTo>
                  <a:pt x="901" y="3279"/>
                </a:lnTo>
                <a:lnTo>
                  <a:pt x="936" y="3273"/>
                </a:lnTo>
                <a:lnTo>
                  <a:pt x="959" y="3269"/>
                </a:lnTo>
                <a:lnTo>
                  <a:pt x="967" y="3267"/>
                </a:lnTo>
                <a:lnTo>
                  <a:pt x="1047" y="3637"/>
                </a:lnTo>
                <a:lnTo>
                  <a:pt x="2835" y="3637"/>
                </a:lnTo>
                <a:lnTo>
                  <a:pt x="2565" y="2842"/>
                </a:lnTo>
                <a:lnTo>
                  <a:pt x="2573" y="2832"/>
                </a:lnTo>
                <a:lnTo>
                  <a:pt x="2596" y="2805"/>
                </a:lnTo>
                <a:lnTo>
                  <a:pt x="2629" y="2764"/>
                </a:lnTo>
                <a:lnTo>
                  <a:pt x="2670" y="2713"/>
                </a:lnTo>
                <a:lnTo>
                  <a:pt x="2712" y="2656"/>
                </a:lnTo>
                <a:lnTo>
                  <a:pt x="2755" y="2597"/>
                </a:lnTo>
                <a:lnTo>
                  <a:pt x="2794" y="2539"/>
                </a:lnTo>
                <a:lnTo>
                  <a:pt x="2825" y="2486"/>
                </a:lnTo>
                <a:close/>
              </a:path>
            </a:pathLst>
          </a:custGeom>
          <a:solidFill>
            <a:srgbClr val="006837"/>
          </a:solid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27" name="TextBox 50"/>
          <p:cNvSpPr/>
          <p:nvPr/>
        </p:nvSpPr>
        <p:spPr>
          <a:xfrm>
            <a:off x="3963960" y="4592520"/>
            <a:ext cx="141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Swis721 BT"/>
                <a:ea typeface="MS PGothic"/>
              </a:rPr>
              <a:t>INDIVIDUAL</a:t>
            </a:r>
            <a:endParaRPr b="1" lang="en-US" sz="1600" spc="-1" strike="noStrike">
              <a:solidFill>
                <a:srgbClr val="000000"/>
              </a:solidFill>
              <a:latin typeface="Swis721 BT"/>
            </a:endParaRPr>
          </a:p>
        </p:txBody>
      </p:sp>
      <p:sp>
        <p:nvSpPr>
          <p:cNvPr id="128" name="TextBox 13"/>
          <p:cNvSpPr/>
          <p:nvPr/>
        </p:nvSpPr>
        <p:spPr>
          <a:xfrm>
            <a:off x="3262320" y="2884320"/>
            <a:ext cx="25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Values, Beliefs, Attitudes</a:t>
            </a:r>
            <a:endParaRPr b="1" lang="en-US" sz="1400" spc="-1" strike="noStrike">
              <a:solidFill>
                <a:srgbClr val="000000"/>
              </a:solidFill>
              <a:latin typeface="Swis721 BT"/>
            </a:endParaRPr>
          </a:p>
        </p:txBody>
      </p:sp>
      <p:sp>
        <p:nvSpPr>
          <p:cNvPr id="129" name="TextBox 14"/>
          <p:cNvSpPr/>
          <p:nvPr/>
        </p:nvSpPr>
        <p:spPr>
          <a:xfrm>
            <a:off x="3935520" y="3411360"/>
            <a:ext cx="1265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Emotions</a:t>
            </a:r>
            <a:endParaRPr b="1" lang="en-US" sz="1400" spc="-1" strike="noStrike">
              <a:solidFill>
                <a:srgbClr val="000000"/>
              </a:solidFill>
              <a:latin typeface="Swis721 BT"/>
            </a:endParaRPr>
          </a:p>
        </p:txBody>
      </p:sp>
      <p:sp>
        <p:nvSpPr>
          <p:cNvPr id="130" name="TextBox 15"/>
          <p:cNvSpPr/>
          <p:nvPr/>
        </p:nvSpPr>
        <p:spPr>
          <a:xfrm>
            <a:off x="3595680" y="367344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Agency</a:t>
            </a:r>
            <a:endParaRPr b="1" lang="en-US" sz="1400" spc="-1" strike="noStrike">
              <a:solidFill>
                <a:srgbClr val="000000"/>
              </a:solidFill>
              <a:latin typeface="Swis721 BT"/>
            </a:endParaRPr>
          </a:p>
        </p:txBody>
      </p:sp>
      <p:sp>
        <p:nvSpPr>
          <p:cNvPr id="131" name="TextBox 16"/>
          <p:cNvSpPr/>
          <p:nvPr/>
        </p:nvSpPr>
        <p:spPr>
          <a:xfrm>
            <a:off x="3595680" y="393876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Skills</a:t>
            </a:r>
            <a:endParaRPr b="1" lang="en-US" sz="1400" spc="-1" strike="noStrike">
              <a:solidFill>
                <a:srgbClr val="000000"/>
              </a:solidFill>
              <a:latin typeface="Swis721 BT"/>
            </a:endParaRPr>
          </a:p>
        </p:txBody>
      </p:sp>
      <p:sp>
        <p:nvSpPr>
          <p:cNvPr id="132" name="TextBox 30"/>
          <p:cNvSpPr/>
          <p:nvPr/>
        </p:nvSpPr>
        <p:spPr>
          <a:xfrm>
            <a:off x="3595680" y="314964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Costs &amp; Benefits</a:t>
            </a:r>
            <a:endParaRPr b="1" lang="en-US" sz="1400" spc="-1" strike="noStrike">
              <a:solidFill>
                <a:srgbClr val="000000"/>
              </a:solidFill>
              <a:latin typeface="Swis721 BT"/>
            </a:endParaRPr>
          </a:p>
        </p:txBody>
      </p:sp>
      <p:sp>
        <p:nvSpPr>
          <p:cNvPr id="133" name="TextBox 37"/>
          <p:cNvSpPr/>
          <p:nvPr/>
        </p:nvSpPr>
        <p:spPr>
          <a:xfrm>
            <a:off x="3595680" y="420228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Habit</a:t>
            </a:r>
            <a:endParaRPr b="1" lang="en-US" sz="1400" spc="-1" strike="noStrike">
              <a:solidFill>
                <a:srgbClr val="000000"/>
              </a:solidFill>
              <a:latin typeface="Swis721 BT"/>
            </a:endParaRPr>
          </a:p>
        </p:txBody>
      </p:sp>
      <p:sp>
        <p:nvSpPr>
          <p:cNvPr id="134"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Individual Factors</a:t>
            </a:r>
            <a:endParaRPr b="1" lang="en-US" sz="2400" spc="-1" strike="noStrike">
              <a:solidFill>
                <a:srgbClr val="000000"/>
              </a:solidFill>
              <a:latin typeface="Swis721 BT"/>
            </a:endParaRPr>
          </a:p>
        </p:txBody>
      </p:sp>
      <p:sp>
        <p:nvSpPr>
          <p:cNvPr id="135" name="Straight Connector 32"/>
          <p:cNvSpPr/>
          <p:nvPr/>
        </p:nvSpPr>
        <p:spPr>
          <a:xfrm>
            <a:off x="3073320" y="2357280"/>
            <a:ext cx="77796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36" name="TextBox 19"/>
          <p:cNvSpPr/>
          <p:nvPr/>
        </p:nvSpPr>
        <p:spPr>
          <a:xfrm>
            <a:off x="5673600" y="1617840"/>
            <a:ext cx="339408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Basis of Rational Choice, and ‘Bounded Rationality’</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37" name="Straight Connector 34"/>
          <p:cNvSpPr/>
          <p:nvPr/>
        </p:nvSpPr>
        <p:spPr>
          <a:xfrm flipH="1">
            <a:off x="5462640" y="2249640"/>
            <a:ext cx="210960" cy="78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38" name="TextBox 19"/>
          <p:cNvSpPr/>
          <p:nvPr/>
        </p:nvSpPr>
        <p:spPr>
          <a:xfrm>
            <a:off x="539640" y="3049560"/>
            <a:ext cx="239076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Hot’ Evaluation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39" name="Straight Connector 37"/>
          <p:cNvSpPr/>
          <p:nvPr/>
        </p:nvSpPr>
        <p:spPr>
          <a:xfrm>
            <a:off x="2930400" y="3527280"/>
            <a:ext cx="113688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Swis721 BT"/>
            </a:endParaRPr>
          </a:p>
        </p:txBody>
      </p:sp>
      <p:sp>
        <p:nvSpPr>
          <p:cNvPr id="140" name="TextBox 19"/>
          <p:cNvSpPr/>
          <p:nvPr/>
        </p:nvSpPr>
        <p:spPr>
          <a:xfrm>
            <a:off x="6351480" y="3065400"/>
            <a:ext cx="266400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Sense of Personal Control, ‘Self Efficacy’</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1" name="Straight Connector 43"/>
          <p:cNvSpPr/>
          <p:nvPr/>
        </p:nvSpPr>
        <p:spPr>
          <a:xfrm flipH="1" flipV="1">
            <a:off x="5198760" y="3281040"/>
            <a:ext cx="1152360" cy="47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42" name="TextBox 19"/>
          <p:cNvSpPr/>
          <p:nvPr/>
        </p:nvSpPr>
        <p:spPr>
          <a:xfrm>
            <a:off x="692280" y="4129200"/>
            <a:ext cx="239076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Competences inc.</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Know How’ and ‘Know Wha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3" name="Straight Connector 47"/>
          <p:cNvSpPr/>
          <p:nvPr/>
        </p:nvSpPr>
        <p:spPr>
          <a:xfrm flipV="1">
            <a:off x="3083040" y="4149360"/>
            <a:ext cx="1128600" cy="67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44" name="TextBox 19"/>
          <p:cNvSpPr/>
          <p:nvPr/>
        </p:nvSpPr>
        <p:spPr>
          <a:xfrm>
            <a:off x="6012000" y="4633920"/>
            <a:ext cx="288108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ast Behaviour, Routine Practic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5" name="Straight Connector 54"/>
          <p:cNvSpPr/>
          <p:nvPr/>
        </p:nvSpPr>
        <p:spPr>
          <a:xfrm flipH="1" flipV="1">
            <a:off x="4859280" y="4365720"/>
            <a:ext cx="1152720" cy="8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46" name="Picture 31" descr="ADLOGO1.jpg"/>
          <p:cNvPicPr/>
          <p:nvPr/>
        </p:nvPicPr>
        <p:blipFill>
          <a:blip r:embed="rId1"/>
          <a:stretch/>
        </p:blipFill>
        <p:spPr>
          <a:xfrm>
            <a:off x="8229600" y="5943600"/>
            <a:ext cx="83808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reeform 29"/>
          <p:cNvSpPr/>
          <p:nvPr/>
        </p:nvSpPr>
        <p:spPr>
          <a:xfrm>
            <a:off x="384336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48"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49" name="Freeform 33"/>
          <p:cNvSpPr/>
          <p:nvPr/>
        </p:nvSpPr>
        <p:spPr>
          <a:xfrm>
            <a:off x="384660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50" name="Oval 9"/>
          <p:cNvSpPr/>
          <p:nvPr/>
        </p:nvSpPr>
        <p:spPr>
          <a:xfrm>
            <a:off x="2117880" y="1390680"/>
            <a:ext cx="4694040" cy="4492440"/>
          </a:xfrm>
          <a:prstGeom prst="ellipse">
            <a:avLst/>
          </a:prstGeom>
          <a:noFill/>
          <a:ln w="41400">
            <a:solidFill>
              <a:srgbClr val="00683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151" name="TextBox 10"/>
          <p:cNvSpPr/>
          <p:nvPr/>
        </p:nvSpPr>
        <p:spPr>
          <a:xfrm>
            <a:off x="3924360" y="520524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wis721 BT"/>
                <a:ea typeface="MS PGothic"/>
              </a:rPr>
              <a:t>SOCIAL</a:t>
            </a:r>
            <a:endParaRPr b="1" lang="en-US" sz="1600" spc="-1" strike="noStrike">
              <a:solidFill>
                <a:srgbClr val="000000"/>
              </a:solidFill>
              <a:latin typeface="Swis721 BT"/>
            </a:endParaRPr>
          </a:p>
        </p:txBody>
      </p:sp>
      <p:sp>
        <p:nvSpPr>
          <p:cNvPr id="152" name="TextBox 11"/>
          <p:cNvSpPr/>
          <p:nvPr/>
        </p:nvSpPr>
        <p:spPr>
          <a:xfrm>
            <a:off x="3840120" y="5940360"/>
            <a:ext cx="1295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MATERIAL</a:t>
            </a:r>
            <a:endParaRPr b="1" lang="en-US" sz="1400" spc="-1" strike="noStrike">
              <a:solidFill>
                <a:srgbClr val="000000"/>
              </a:solidFill>
              <a:latin typeface="Swis721 BT"/>
            </a:endParaRPr>
          </a:p>
        </p:txBody>
      </p:sp>
      <p:sp>
        <p:nvSpPr>
          <p:cNvPr id="153" name="TextBox 18"/>
          <p:cNvSpPr/>
          <p:nvPr/>
        </p:nvSpPr>
        <p:spPr>
          <a:xfrm>
            <a:off x="2629080" y="2435400"/>
            <a:ext cx="1064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orms</a:t>
            </a:r>
            <a:endParaRPr b="1" lang="en-US" sz="1400" spc="-1" strike="noStrike">
              <a:solidFill>
                <a:srgbClr val="000000"/>
              </a:solidFill>
              <a:latin typeface="Swis721 BT"/>
            </a:endParaRPr>
          </a:p>
        </p:txBody>
      </p:sp>
      <p:sp>
        <p:nvSpPr>
          <p:cNvPr id="154" name="TextBox 19"/>
          <p:cNvSpPr/>
          <p:nvPr/>
        </p:nvSpPr>
        <p:spPr>
          <a:xfrm>
            <a:off x="3330720" y="1771560"/>
            <a:ext cx="2390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Roles &amp; Identity</a:t>
            </a:r>
            <a:endParaRPr b="1" lang="en-US" sz="1400" spc="-1" strike="noStrike">
              <a:solidFill>
                <a:srgbClr val="000000"/>
              </a:solidFill>
              <a:latin typeface="Swis721 BT"/>
            </a:endParaRPr>
          </a:p>
        </p:txBody>
      </p:sp>
      <p:sp>
        <p:nvSpPr>
          <p:cNvPr id="155" name="TextBox 21"/>
          <p:cNvSpPr/>
          <p:nvPr/>
        </p:nvSpPr>
        <p:spPr>
          <a:xfrm>
            <a:off x="5580000" y="4202280"/>
            <a:ext cx="1065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Opinion Leaders</a:t>
            </a:r>
            <a:endParaRPr b="1" lang="en-US" sz="1400" spc="-1" strike="noStrike">
              <a:solidFill>
                <a:srgbClr val="000000"/>
              </a:solidFill>
              <a:latin typeface="Swis721 BT"/>
            </a:endParaRPr>
          </a:p>
        </p:txBody>
      </p:sp>
      <p:sp>
        <p:nvSpPr>
          <p:cNvPr id="156" name="TextBox 22"/>
          <p:cNvSpPr/>
          <p:nvPr/>
        </p:nvSpPr>
        <p:spPr>
          <a:xfrm>
            <a:off x="2362320" y="4202280"/>
            <a:ext cx="1417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etworks &amp; Relationships</a:t>
            </a:r>
            <a:endParaRPr b="1" lang="en-US" sz="1400" spc="-1" strike="noStrike">
              <a:solidFill>
                <a:srgbClr val="000000"/>
              </a:solidFill>
              <a:latin typeface="Swis721 BT"/>
            </a:endParaRPr>
          </a:p>
        </p:txBody>
      </p:sp>
      <p:sp>
        <p:nvSpPr>
          <p:cNvPr id="157" name="TextBox 23"/>
          <p:cNvSpPr/>
          <p:nvPr/>
        </p:nvSpPr>
        <p:spPr>
          <a:xfrm>
            <a:off x="5676840" y="3317760"/>
            <a:ext cx="1065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Meanings</a:t>
            </a:r>
            <a:endParaRPr b="1" lang="en-US" sz="1400" spc="-1" strike="noStrike">
              <a:solidFill>
                <a:srgbClr val="000000"/>
              </a:solidFill>
              <a:latin typeface="Swis721 BT"/>
            </a:endParaRPr>
          </a:p>
        </p:txBody>
      </p:sp>
      <p:sp>
        <p:nvSpPr>
          <p:cNvPr id="158" name="TextBox 27"/>
          <p:cNvSpPr/>
          <p:nvPr/>
        </p:nvSpPr>
        <p:spPr>
          <a:xfrm>
            <a:off x="2039760" y="3317760"/>
            <a:ext cx="1474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stitutions</a:t>
            </a:r>
            <a:endParaRPr b="1" lang="en-US" sz="1400" spc="-1" strike="noStrike">
              <a:solidFill>
                <a:srgbClr val="000000"/>
              </a:solidFill>
              <a:latin typeface="Swis721 BT"/>
            </a:endParaRPr>
          </a:p>
        </p:txBody>
      </p:sp>
      <p:sp>
        <p:nvSpPr>
          <p:cNvPr id="159" name="TextBox 36"/>
          <p:cNvSpPr/>
          <p:nvPr/>
        </p:nvSpPr>
        <p:spPr>
          <a:xfrm>
            <a:off x="5392800" y="2435400"/>
            <a:ext cx="1212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Tastes</a:t>
            </a:r>
            <a:endParaRPr b="1" lang="en-US" sz="1400" spc="-1" strike="noStrike">
              <a:solidFill>
                <a:srgbClr val="000000"/>
              </a:solidFill>
              <a:latin typeface="Swis721 BT"/>
            </a:endParaRPr>
          </a:p>
        </p:txBody>
      </p:sp>
      <p:sp>
        <p:nvSpPr>
          <p:cNvPr id="160"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Social Factors</a:t>
            </a:r>
            <a:endParaRPr b="1" lang="en-US" sz="2400" spc="-1" strike="noStrike">
              <a:solidFill>
                <a:srgbClr val="000000"/>
              </a:solidFill>
              <a:latin typeface="Swis721 BT"/>
            </a:endParaRPr>
          </a:p>
        </p:txBody>
      </p:sp>
      <p:sp>
        <p:nvSpPr>
          <p:cNvPr id="161" name="TextBox 19"/>
          <p:cNvSpPr/>
          <p:nvPr/>
        </p:nvSpPr>
        <p:spPr>
          <a:xfrm>
            <a:off x="2771640" y="765000"/>
            <a:ext cx="545796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ersonae / Repertoires Sense of Self (&amp; Other)</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2" name="Straight Connector 33"/>
          <p:cNvSpPr/>
          <p:nvPr/>
        </p:nvSpPr>
        <p:spPr>
          <a:xfrm flipH="1">
            <a:off x="4356000" y="1289160"/>
            <a:ext cx="1144800" cy="48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3" name="TextBox 19"/>
          <p:cNvSpPr/>
          <p:nvPr/>
        </p:nvSpPr>
        <p:spPr>
          <a:xfrm>
            <a:off x="160200" y="1058760"/>
            <a:ext cx="23907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Sense of Others’ Conduct, &amp; of Approv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4" name="Straight Connector 37"/>
          <p:cNvSpPr/>
          <p:nvPr/>
        </p:nvSpPr>
        <p:spPr>
          <a:xfrm>
            <a:off x="1355760" y="2228760"/>
            <a:ext cx="153684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5" name="TextBox 19"/>
          <p:cNvSpPr/>
          <p:nvPr/>
        </p:nvSpPr>
        <p:spPr>
          <a:xfrm>
            <a:off x="6429240" y="1393920"/>
            <a:ext cx="23907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references &amp; Dispositions; can signal ‘Distinction’</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6" name="Straight Connector 40"/>
          <p:cNvSpPr/>
          <p:nvPr/>
        </p:nvSpPr>
        <p:spPr>
          <a:xfrm flipH="1">
            <a:off x="6254640" y="2563920"/>
            <a:ext cx="137016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000000"/>
              </a:solidFill>
              <a:latin typeface="Swis721 BT"/>
            </a:endParaRPr>
          </a:p>
        </p:txBody>
      </p:sp>
      <p:sp>
        <p:nvSpPr>
          <p:cNvPr id="167" name="TextBox 19"/>
          <p:cNvSpPr/>
          <p:nvPr/>
        </p:nvSpPr>
        <p:spPr>
          <a:xfrm>
            <a:off x="66600" y="2906640"/>
            <a:ext cx="194472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Mechanisms governing Group Conduct – </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Formal’ &amp; ‘Inform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8" name="Straight Connector 43"/>
          <p:cNvSpPr/>
          <p:nvPr/>
        </p:nvSpPr>
        <p:spPr>
          <a:xfrm flipV="1">
            <a:off x="2011320" y="3483000"/>
            <a:ext cx="216000" cy="22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9" name="TextBox 19"/>
          <p:cNvSpPr/>
          <p:nvPr/>
        </p:nvSpPr>
        <p:spPr>
          <a:xfrm>
            <a:off x="7174080" y="2979720"/>
            <a:ext cx="136836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mages, Ideas, Associations; ‘Fram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0" name="Straight Connector 47"/>
          <p:cNvSpPr/>
          <p:nvPr/>
        </p:nvSpPr>
        <p:spPr>
          <a:xfrm>
            <a:off x="6659640" y="3471840"/>
            <a:ext cx="514440" cy="20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1" name="TextBox 19"/>
          <p:cNvSpPr/>
          <p:nvPr/>
        </p:nvSpPr>
        <p:spPr>
          <a:xfrm>
            <a:off x="324000" y="4653000"/>
            <a:ext cx="165564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terpersonal Influences, ‘Social Capit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2" name="Straight Connector 52"/>
          <p:cNvSpPr/>
          <p:nvPr/>
        </p:nvSpPr>
        <p:spPr>
          <a:xfrm flipV="1">
            <a:off x="1979640" y="4508280"/>
            <a:ext cx="431640" cy="10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3" name="TextBox 19"/>
          <p:cNvSpPr/>
          <p:nvPr/>
        </p:nvSpPr>
        <p:spPr>
          <a:xfrm>
            <a:off x="7093080" y="4581360"/>
            <a:ext cx="1655640" cy="2012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odes. Influencers, Authorities, Celeb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4" name="Straight Connector 87"/>
          <p:cNvSpPr/>
          <p:nvPr/>
        </p:nvSpPr>
        <p:spPr>
          <a:xfrm flipH="1" flipV="1">
            <a:off x="6443640" y="4508280"/>
            <a:ext cx="649440" cy="10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75" name="Picture 31" descr="ADLOGO1.jpg"/>
          <p:cNvPicPr/>
          <p:nvPr/>
        </p:nvPicPr>
        <p:blipFill>
          <a:blip r:embed="rId1"/>
          <a:stretch/>
        </p:blipFill>
        <p:spPr>
          <a:xfrm>
            <a:off x="8229600" y="5943600"/>
            <a:ext cx="838080" cy="838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6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7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7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4"/>
          <p:cNvSpPr/>
          <p:nvPr/>
        </p:nvSpPr>
        <p:spPr>
          <a:xfrm>
            <a:off x="1474920" y="914400"/>
            <a:ext cx="6305400" cy="5688000"/>
          </a:xfrm>
          <a:prstGeom prst="rect">
            <a:avLst/>
          </a:prstGeom>
          <a:solidFill>
            <a:srgbClr val="006837"/>
          </a:solidFill>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7" name="Freeform 29"/>
          <p:cNvSpPr/>
          <p:nvPr/>
        </p:nvSpPr>
        <p:spPr>
          <a:xfrm>
            <a:off x="384336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78"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79" name="Freeform 33"/>
          <p:cNvSpPr/>
          <p:nvPr/>
        </p:nvSpPr>
        <p:spPr>
          <a:xfrm>
            <a:off x="384804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80" name="Oval 9"/>
          <p:cNvSpPr/>
          <p:nvPr/>
        </p:nvSpPr>
        <p:spPr>
          <a:xfrm>
            <a:off x="2225520" y="1157400"/>
            <a:ext cx="4694400" cy="4492440"/>
          </a:xfrm>
          <a:prstGeom prst="ellipse">
            <a:avLst/>
          </a:prstGeom>
          <a:solidFill>
            <a:srgbClr val="ffffff"/>
          </a:solidFill>
          <a:ln w="414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181" name="TextBox 11"/>
          <p:cNvSpPr/>
          <p:nvPr/>
        </p:nvSpPr>
        <p:spPr>
          <a:xfrm>
            <a:off x="3840120" y="594036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Swis721 BT"/>
                <a:ea typeface="MS PGothic"/>
              </a:rPr>
              <a:t>MATERIAL</a:t>
            </a:r>
            <a:endParaRPr b="1" lang="en-US" sz="1600" spc="-1" strike="noStrike">
              <a:solidFill>
                <a:srgbClr val="000000"/>
              </a:solidFill>
              <a:latin typeface="Swis721 BT"/>
            </a:endParaRPr>
          </a:p>
        </p:txBody>
      </p:sp>
      <p:sp>
        <p:nvSpPr>
          <p:cNvPr id="182" name="TextBox 24"/>
          <p:cNvSpPr/>
          <p:nvPr/>
        </p:nvSpPr>
        <p:spPr>
          <a:xfrm>
            <a:off x="3687840" y="920880"/>
            <a:ext cx="1473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Infrastructure</a:t>
            </a:r>
            <a:endParaRPr b="1" lang="en-US" sz="1400" spc="-1" strike="noStrike">
              <a:solidFill>
                <a:srgbClr val="000000"/>
              </a:solidFill>
              <a:latin typeface="Swis721 BT"/>
            </a:endParaRPr>
          </a:p>
        </p:txBody>
      </p:sp>
      <p:sp>
        <p:nvSpPr>
          <p:cNvPr id="183" name="TextBox 25"/>
          <p:cNvSpPr/>
          <p:nvPr/>
        </p:nvSpPr>
        <p:spPr>
          <a:xfrm>
            <a:off x="6194520" y="1725480"/>
            <a:ext cx="14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Objects</a:t>
            </a:r>
            <a:endParaRPr b="1" lang="en-US" sz="1400" spc="-1" strike="noStrike">
              <a:solidFill>
                <a:srgbClr val="000000"/>
              </a:solidFill>
              <a:latin typeface="Swis721 BT"/>
            </a:endParaRPr>
          </a:p>
        </p:txBody>
      </p:sp>
      <p:sp>
        <p:nvSpPr>
          <p:cNvPr id="184" name="TextBox 26"/>
          <p:cNvSpPr/>
          <p:nvPr/>
        </p:nvSpPr>
        <p:spPr>
          <a:xfrm>
            <a:off x="2052720" y="1339920"/>
            <a:ext cx="14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Technologies</a:t>
            </a:r>
            <a:endParaRPr b="1" lang="en-US" sz="1400" spc="-1" strike="noStrike">
              <a:solidFill>
                <a:srgbClr val="000000"/>
              </a:solidFill>
              <a:latin typeface="Swis721 BT"/>
            </a:endParaRPr>
          </a:p>
        </p:txBody>
      </p:sp>
      <p:sp>
        <p:nvSpPr>
          <p:cNvPr id="185" name="TextBox 28"/>
          <p:cNvSpPr/>
          <p:nvPr/>
        </p:nvSpPr>
        <p:spPr>
          <a:xfrm>
            <a:off x="1614600" y="5721480"/>
            <a:ext cx="1222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Rules &amp; Regulations</a:t>
            </a:r>
            <a:endParaRPr b="1" lang="en-US" sz="1400" spc="-1" strike="noStrike">
              <a:solidFill>
                <a:srgbClr val="000000"/>
              </a:solidFill>
              <a:latin typeface="Swis721 BT"/>
            </a:endParaRPr>
          </a:p>
        </p:txBody>
      </p:sp>
      <p:sp>
        <p:nvSpPr>
          <p:cNvPr id="186" name="TextBox 29"/>
          <p:cNvSpPr/>
          <p:nvPr/>
        </p:nvSpPr>
        <p:spPr>
          <a:xfrm>
            <a:off x="5958000" y="5388120"/>
            <a:ext cx="14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Time &amp; Schedules</a:t>
            </a:r>
            <a:endParaRPr b="1" lang="en-US" sz="1400" spc="-1" strike="noStrike">
              <a:solidFill>
                <a:srgbClr val="000000"/>
              </a:solidFill>
              <a:latin typeface="Swis721 BT"/>
            </a:endParaRPr>
          </a:p>
        </p:txBody>
      </p:sp>
      <p:sp>
        <p:nvSpPr>
          <p:cNvPr id="187"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Material Factors</a:t>
            </a:r>
            <a:endParaRPr b="1" lang="en-US" sz="2400" spc="-1" strike="noStrike">
              <a:solidFill>
                <a:srgbClr val="000000"/>
              </a:solidFill>
              <a:latin typeface="Swis721 BT"/>
            </a:endParaRPr>
          </a:p>
        </p:txBody>
      </p:sp>
      <p:sp>
        <p:nvSpPr>
          <p:cNvPr id="188" name="TextBox 19"/>
          <p:cNvSpPr/>
          <p:nvPr/>
        </p:nvSpPr>
        <p:spPr>
          <a:xfrm>
            <a:off x="3446640" y="1547640"/>
            <a:ext cx="241128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Hard’ and ‘Soft’ Infrastructure as Boundari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89" name="Straight Connector 32"/>
          <p:cNvSpPr/>
          <p:nvPr/>
        </p:nvSpPr>
        <p:spPr>
          <a:xfrm>
            <a:off x="4419720" y="1085760"/>
            <a:ext cx="233280" cy="36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0" name="TextBox 19"/>
          <p:cNvSpPr/>
          <p:nvPr/>
        </p:nvSpPr>
        <p:spPr>
          <a:xfrm>
            <a:off x="2411280" y="2475000"/>
            <a:ext cx="2092320" cy="73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teract with users, generate new idea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1" name="Straight Connector 46"/>
          <p:cNvSpPr/>
          <p:nvPr/>
        </p:nvSpPr>
        <p:spPr>
          <a:xfrm>
            <a:off x="2843280" y="1700280"/>
            <a:ext cx="61416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2" name="TextBox 19"/>
          <p:cNvSpPr/>
          <p:nvPr/>
        </p:nvSpPr>
        <p:spPr>
          <a:xfrm>
            <a:off x="4627440" y="2475000"/>
            <a:ext cx="247824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Things involved in practices, but also ‘act back’</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3" name="Straight Connector 51"/>
          <p:cNvSpPr/>
          <p:nvPr/>
        </p:nvSpPr>
        <p:spPr>
          <a:xfrm flipH="1">
            <a:off x="5866920" y="2033640"/>
            <a:ext cx="1065240" cy="44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4" name="TextBox 19"/>
          <p:cNvSpPr/>
          <p:nvPr/>
        </p:nvSpPr>
        <p:spPr>
          <a:xfrm>
            <a:off x="2836800" y="3338640"/>
            <a:ext cx="1374840" cy="15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Formal’ &amp; ‘Informal’/Emergen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5" name="TextBox 19"/>
          <p:cNvSpPr/>
          <p:nvPr/>
        </p:nvSpPr>
        <p:spPr>
          <a:xfrm>
            <a:off x="4334040" y="3562200"/>
            <a:ext cx="1944360" cy="15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Finite resource, also institutionally se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6" name="Straight Connector 60"/>
          <p:cNvSpPr/>
          <p:nvPr/>
        </p:nvSpPr>
        <p:spPr>
          <a:xfrm flipH="1" flipV="1">
            <a:off x="6137280" y="4902120"/>
            <a:ext cx="78264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97" name="Picture 31" descr="ADLOGO1.jpg"/>
          <p:cNvPicPr/>
          <p:nvPr/>
        </p:nvPicPr>
        <p:blipFill>
          <a:blip r:embed="rId1"/>
          <a:stretch/>
        </p:blipFill>
        <p:spPr>
          <a:xfrm>
            <a:off x="8229600" y="5943600"/>
            <a:ext cx="838080" cy="838080"/>
          </a:xfrm>
          <a:prstGeom prst="rect">
            <a:avLst/>
          </a:prstGeom>
          <a:ln w="0">
            <a:noFill/>
          </a:ln>
        </p:spPr>
      </p:pic>
      <p:sp>
        <p:nvSpPr>
          <p:cNvPr id="198" name="Straight Connector 33"/>
          <p:cNvSpPr/>
          <p:nvPr/>
        </p:nvSpPr>
        <p:spPr>
          <a:xfrm flipV="1">
            <a:off x="2060640" y="4901760"/>
            <a:ext cx="776160" cy="77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8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91"/>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9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94"/>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9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9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18:54:23Z</dcterms:created>
  <dc:creator>Administrator</dc:creator>
  <dc:description/>
  <dc:language>en-US</dc:language>
  <cp:lastModifiedBy>Lucy-Ann Henry</cp:lastModifiedBy>
  <cp:lastPrinted>2002-02-21T17:00:37Z</cp:lastPrinted>
  <dcterms:modified xsi:type="dcterms:W3CDTF">2015-09-25T14:29:42Z</dcterms:modified>
  <cp:revision>443</cp:revision>
  <dc:subject/>
  <dc:title>Kid Power World</dc:title>
</cp:coreProperties>
</file>